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F72-F0B2-4BD6-B2D8-3B000FC1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3E1-38BE-418B-A4AD-823E2BDC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843-1B77-4BE9-81F8-07565451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08E-3514-450B-AB35-E82276D6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062-C00E-41B5-B9DF-877569D6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B7A-CFC3-45C2-A20D-805FE81E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AE7-6A48-4CC6-B55D-6A011F11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064-B518-4EFC-A7E0-3DD901EA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04B-7E87-4C1E-B1C7-805EA37D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6B7-A253-40BE-A4F0-FE760459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7C1-9660-45CE-9B02-4E6CEC5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D1F-EE60-4697-80A0-3399EDB3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4F6D-AC7F-437D-BDB2-52FF84D5A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lingcheese.com/graphics/1/life+quotes.htm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blingcheese.com/image/code/11/peace+quotes.ht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lingcheese.com/image/code/11/peace+quotes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,peace is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ephan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080" y="1218600"/>
            <a:ext cx="345924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4419720"/>
            <a:ext cx="373392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ace Image"/>
          <p:cNvPicPr/>
          <p:nvPr/>
        </p:nvPicPr>
        <p:blipFill>
          <a:blip r:embed="rId1"/>
          <a:stretch/>
        </p:blipFill>
        <p:spPr>
          <a:xfrm>
            <a:off x="1676520" y="1522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is no way to peac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ce is the way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j Meche qu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309840"/>
            <a:ext cx="480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all find peace. We shall hear angels. We shall see the sky sparkling with diamonds.  Anton Che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Tapestry_Rainbow_Peace_Sign_Tie-dye.jpg peace sign tie dye image by mj121958"/>
          <p:cNvPicPr/>
          <p:nvPr/>
        </p:nvPicPr>
        <p:blipFill>
          <a:blip r:embed="rId1"/>
          <a:stretch/>
        </p:blipFill>
        <p:spPr>
          <a:xfrm>
            <a:off x="2590920" y="3200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little things can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lucas-peace-sign-1.jpg baby image by elisa111_2010"/>
          <p:cNvPicPr/>
          <p:nvPr/>
        </p:nvPicPr>
        <p:blipFill>
          <a:blip r:embed="rId1"/>
          <a:stretch/>
        </p:blipFill>
        <p:spPr>
          <a:xfrm>
            <a:off x="5791320" y="1828800"/>
            <a:ext cx="2895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ce is not the absence of war; it is a virtue; a state of mind; a disposition for benevolence; confidence; and justice.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uch Spino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thpeace-1.jpg rainbow peace sign image by mj121958"/>
          <p:cNvPicPr/>
          <p:nvPr/>
        </p:nvPicPr>
        <p:blipFill>
          <a:blip r:embed="rId1"/>
          <a:stretch/>
        </p:blipFill>
        <p:spPr>
          <a:xfrm>
            <a:off x="5334120" y="3200400"/>
            <a:ext cx="3274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53:34Z</dcterms:created>
  <dc:creator>vcollier</dc:creator>
  <dc:description/>
  <dc:language>en-US</dc:language>
  <cp:lastModifiedBy>Vanessa Collier</cp:lastModifiedBy>
  <dcterms:modified xsi:type="dcterms:W3CDTF">2010-05-17T17:29:51Z</dcterms:modified>
  <cp:revision>12</cp:revision>
  <dc:subject/>
  <dc:title>Peace quotes2</dc:title>
</cp:coreProperties>
</file>